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5092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148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ftr" idx="5"/>
          </p:nvPr>
        </p:nvSpPr>
        <p:spPr>
          <a:xfrm>
            <a:off x="0" y="8685360"/>
            <a:ext cx="295128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13DBD-ADE9-4292-8129-CC62D4445A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456552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43000" y="685800"/>
            <a:ext cx="456552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FBC5-3546-4A1D-B09E-FBD0C1E45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2328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2090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12560"/>
            <a:ext cx="82090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53C9-1990-4E2D-A6BF-81E437E0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2328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17190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1256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01256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5464-E311-4B72-A757-48D205C1F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2328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2440" y="171900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8040" y="171900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1256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2440" y="401256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8040" y="401256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70F5-4230-4A6B-B61B-0E658F42A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2328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190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6566-5C0C-439E-9BB5-1659678C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2328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76D3-E7D3-4B1A-82D8-203F1A83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2328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40057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1719000"/>
            <a:ext cx="40057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42D9-49CE-489C-8654-D00BCE30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2328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FFBD-5721-47E1-93E6-9B692784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360" y="115560"/>
            <a:ext cx="7523280" cy="59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3086-5C50-4026-9D0E-F34C13BC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2328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1719000"/>
            <a:ext cx="40057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1256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E0CF-E11E-4297-8D55-EADBFED1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2328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40057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17190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01256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66F2-CA86-421A-B14D-254284A7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2328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17190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12560"/>
            <a:ext cx="82090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80CA-BCD8-49F8-9058-8AFF87BB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2328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7190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1284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7496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11320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C102EA1-1841-45BE-A3F8-76DF9E571A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f 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lkml.org/lkml/2010/12/3/35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elinux.org/CELF_Open_Project_Proposal_2011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1908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76360" y="653760"/>
            <a:ext cx="678168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tus of Embedded Linux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00000" y="30686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1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mbedded Linu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1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ommunity New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1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ember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456400" cy="1838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692360" y="5589720"/>
            <a:ext cx="6248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m Bi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LF Architecture Group Cha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88A7-23A6-4E39-ACE5-B44D33F1B19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2328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mbedded Linux Summit (cont.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key initia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gal wording for IP procurement, to promote open source driver avail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 Flag Version – a longterm maintained version of the Linux kern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rmation base of IP blocks and corresponding driv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jects to decrease embedded Linux distro and tools frag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4F1C-972C-451C-BDA6-403D1DE37D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2328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P procurement langua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ompanies saying that not enough customers were asking for open source drivers to justify cost of writing th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 and semi-conductor companies will try to use language in their procurement contracts which encourages suppliers to provide open source driv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P has done this successfu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nguage is not bin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lier has to “opt out”, which means they have received the message that open source drivers are desir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9645-19C9-4F0A-BA77-FE56CFE3C7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76360" y="114480"/>
            <a:ext cx="752472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E Flag Ver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2105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649"/>
              </a:spcBef>
              <a:buClr>
                <a:srgbClr val="3333cc"/>
              </a:buClr>
              <a:buSzPct val="125000"/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bedded groups have lots of different kernel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649"/>
              </a:spcBef>
              <a:buClr>
                <a:srgbClr val="3333cc"/>
              </a:buClr>
              <a:buSzPct val="125000"/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versions are supplied by semiconductor vendors, and it is hard to change because porting drivers would be requi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649"/>
              </a:spcBef>
              <a:buClr>
                <a:srgbClr val="3333cc"/>
              </a:buClr>
              <a:buSzPct val="125000"/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uld decrease integration cost to CE companies if supply chain used fewer kernel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649"/>
              </a:spcBef>
              <a:buClr>
                <a:srgbClr val="3333cc"/>
              </a:buClr>
              <a:buSzPct val="125000"/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ignate specific kernel version for a period of time, and try to focus supply chain on that ver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DC79-D3DC-4EAA-B174-DD854C75276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2328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lag Version detai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ided to promote kernel version 2.6.3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ange confluence of many players at onc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roid, Linaro, Meego, So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i Kleen is the maintainer of the bran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lkml.org/lkml/2010/12/3/3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be called “longterm” (not “stable”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egKH making some changes to how stable is maintain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ngterm branches use same rules as st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Documentation/stable_kernel_rules.t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D28C-7C9E-4D58-BAB7-A9CF56FD57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2328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Yocto projec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l /Linux Foundation publicly announced Yocto project at EL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tempt to consolidate effort on a single build system, and other development to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ose Poky, which is an Open Embedded deriv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nEmbedded seems to have critical m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, Palm/WebOS, D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ntaVista, Wind River, Mentor Graph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ortant Yocto meeting he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issues with governance and relationship with Open Embed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ok for LWN.net article so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8757-00DA-404B-A690-1656E09352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2328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pcoming conferen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bedded Linux Conference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ril 11-13 -  in San Francis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P should go out so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ad to delay because of web site transition with Linux Found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Con Japan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une 1-3 - in Yokoha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C Europe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ctober 26-28 -  in Prag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5443-A266-467A-8283-B749E95DFF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2328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sorti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a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eased Linaro 10.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ice roadmap of technical features they want to accomplis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and Kernel highlight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for valgrind on AR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for Neon instruc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ssist in mainlining Android patch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re working to get ARM device trees mainlined (shooting for 2.6.39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LF and Linux Founding are merg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ts of legal details being taken care o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greements from all contrac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2BFB-AAFD-43AE-A71D-53417460C1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76360" y="114480"/>
            <a:ext cx="752472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scellaneous New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2105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ntor Graphics acquires CodeSource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ny ships Sony Internet T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rst non-phone Android product endorsed by Goog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gle ships Android Gingerbread SD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C154-D094-47E0-A45B-51FC1AFC3AB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atus of CELF wo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997C-789E-458C-939B-A373ED4193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2328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genda (CELF work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LF contract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en Project Propos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rdware don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D19B-A18A-48A8-953C-5CDD1F2499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2472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2105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chnology quick upd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bedded Linux Summit re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 flag ver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c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pcoming confer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scellaneous new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42AD-DC2D-43D7-BCB6-3790E83F6A7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2328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ract work completed this yea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M enhancements for U-bo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memcap in busybo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otchart in busybo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of function-sections work mainlin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quashFS LZO support (not a CELF contract, but an LG kernel contributi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lash filesystem tes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s presented and discussed at EL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6F81-F9E1-4F38-AD29-DB0DEF74EB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2328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ract work of intere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AFFS main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ce format stand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T-preempt online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891A-9C1D-456E-8C70-D3DA36DE8FD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2328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inline YAFFS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YAFFS2 is a popular NAND flash file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s used by Androi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dd support for YAFFS2 to mainline kern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ntractor: Aleph One Lt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Google is Co-Sponsoring this pro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Several patch sets have been submitted to mainl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Were reviewed by IBM Linaro rep (Arnd Bergma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Are still hoping for acceptance by end of the ye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A45A-CAE2-4B8E-9A76-8D7CFC35E7E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2328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ace format standar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scrip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reate a single trace format standard for the embedded indus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ntractor: Efficios (Matthieu Desnoyer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Matthieu published several drafts of the Trace Format docu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It was reviewed by Steve Rostedt, and feedback was provi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Latest draft was reviewed and approved (Dec. 8) by the Tool Infrastructure Work Group of the MultiCore Assoc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CD7A-AC2E-4194-963D-282D5ECB009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2328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RT-preempt tutoria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reate training and tutorial materials for using RT-preempt patchset and fe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On-line course to be put on eLinux wik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ree for public 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ntrator: K Computing (Kevin Dankward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Arial"/>
              </a:rPr>
              <a:t>Expect completion by December 3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1B67-DA03-4D8B-B2D9-718748B3495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2328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ELF Open Project Proposa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can suggest projects to fund for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ust opened proposal period on Tuesd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a submission, think about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did you spend your time working on, on Linux, in the last ye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would have saved you time and effor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n’t have to be a member of CELF or the Linux Found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elinux.org/CELF_Open_Project_Proposal_201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64A4-A6B2-4941-B138-3D1B25B85B1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2328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ract work not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year, because of merger, CELF has double its regular contractor budg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possible projects were discussed at the Embedded Linux Summit, and at the Kernel summ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DCCE-4F51-46AE-99BA-286F74031A7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2328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ndidate contract projec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5820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 fastboot support to Linu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st symbol resolution for module loa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BIL/UBI checkpointing – scalable UBI-attach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ussed with Thomax Gleixner at kernel summ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inline RT-preempt patch 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k-time optimization (for siz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 for ‘whole-program’ compiler op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lp with MIPI spec avail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xec applet in busybo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P block driver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3802-668E-42B6-9557-E6FEF555CBD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2328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re Candidate projec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chdog framework for the Linux kern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eat from last y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barely missed funding, but this year we have more money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nary analysis tool enhanc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ot parameter cach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Flash Filesystem tes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TRFS on UB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arse IRQs on A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fied ARM version support (Linaro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oved defconf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D7A8-0445-4ADD-8DA1-F6B3412369B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2328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ardware don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nation for developer doing BKL removal paid o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bought him a board, and he submitted several patches with BKL lock remov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approved donation for Android develop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n is to use bootchart2 and document result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4444-1D96-43EF-B473-3221D04CBA4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2328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chnology status (quick updates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ble tracing AP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TY-based group schedu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eckpoint/restart for ap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otchart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306F-6BA8-4F31-84BC-D9BC31A181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anks for your tim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A58E-9BCE-43D8-BA2D-F88F6AC415C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2328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able tracing API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al is to designate certain tracepoints as stable, and make them available long-term to user sp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people want stable API and others don’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ided at Kernel Summit to do it, but then negative feedback was received on kernel mailing l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050F-747D-4C24-B956-580BDD7192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2328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TY-based group schedul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tomatically places processes in control groups, based on controlling T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n implements “fairer” scheduling between control gro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vents a kernel compile from interfering too much with interactive tas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s a scheduling mechanism that has been in the kernel for a long time (control group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ich, IMHO, demonstrates that there’s a lot of technology in the kernel that is going unused in embed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C2D4-0C51-48E5-A638-82E3C8007B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2328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eckpoint/Restar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ility to checkpoint and restart (like suspend and resume) an ap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ystem retains open files, memory maps, signals, and other kernel-managed re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mary goals are robustness (recovery) and runtime application mig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want to use it to improve boot-up time (on a per-application basi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 can’t help it, I instinctively look for boot time improv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DBFE-22CD-42CC-9D7F-AE3F0C03C6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2328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otchart 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write of most bootchart element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3333cc"/>
              </a:buClr>
              <a:buSzPct val="125000"/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pture is in C instead of shell scrip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3333cc"/>
              </a:buClr>
              <a:buSzPct val="125000"/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sualizer is in python instead of Ja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3333cc"/>
              </a:buClr>
              <a:buSzPct val="125000"/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ts of bugfixes and improvements to visu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575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ample: transparency for CPU utilization – in original bootchart this showed 0 utilization lots of times when it was not appropria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oking at using trace events instead of pol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3333cc"/>
              </a:buClr>
              <a:buSzPct val="125000"/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uld improve performance and accura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575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Note – would be nice to have stable tracepoint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1B91-A055-47FD-86C8-C849E8AB6D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2328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yslin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process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mmunication mechani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uld be really nice to have a standard system in Linux for IPC between cores in multi-core syst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 willing to donate syslink, but it needs a lot of modification to be accepted into main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125000"/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ch discussion at Plumbers about alternatives and possible solu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something to wat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67AA-40F4-476D-A8DC-737FC14CF0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2328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mbedded Linux Summi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eting of CE vendors, semi-conductor vendors, Linux vendors, community lea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ld one in Japan – September 30, after LinuxC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ld one in Cambridge, UK – October 26, before EL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3B5F-733D-4EF0-8733-A73727827C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toru Ueda</dc:creator>
  <dc:description/>
  <dc:language>en-US</dc:language>
  <cp:lastModifiedBy>Tim Bird</cp:lastModifiedBy>
  <dcterms:modified xsi:type="dcterms:W3CDTF">2010-12-10T03:42:09Z</dcterms:modified>
  <cp:revision>83</cp:revision>
  <dc:subject/>
  <dc:title>スライド 1</dc:title>
</cp:coreProperties>
</file>